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6D6-8817-4280-A10D-DFF2FC41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F10-83E8-4CE2-A302-4688D979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645-2CC3-4E7C-9AC2-B8C8F2F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1EA-C2F0-4CFB-8758-F665F115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A37-C429-4749-8A66-3F7C623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442-3C80-4CF5-BF68-51C1501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6F7-60DA-454C-91F7-55CE69B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793-A3E9-46CC-844E-E41F14C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570-2DBE-4CCA-AD09-C197A16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2C9-76BB-4C42-AF46-61ADDFB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C4A-71A8-4F7B-B77A-F27446A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625-05E1-4651-AAD8-06D5AA7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D77B-0BC4-453C-BFF1-BE340F1F3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in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672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6668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0089468" descr=""/>
          <p:cNvPicPr/>
          <p:nvPr/>
        </p:nvPicPr>
        <p:blipFill>
          <a:blip r:embed="rId1"/>
          <a:stretch/>
        </p:blipFill>
        <p:spPr>
          <a:xfrm>
            <a:off x="2743200" y="4567320"/>
            <a:ext cx="20080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g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66688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g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D05960_" descr=""/>
          <p:cNvPicPr/>
          <p:nvPr/>
        </p:nvPicPr>
        <p:blipFill>
          <a:blip r:embed="rId1"/>
          <a:stretch/>
        </p:blipFill>
        <p:spPr>
          <a:xfrm>
            <a:off x="4267080" y="4114800"/>
            <a:ext cx="21542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320442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8446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819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H01065_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598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0112394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80656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81792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205740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078737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22552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129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07004_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1612800" cy="181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5715000"/>
            <a:ext cx="220968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66688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j0296974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1139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672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6668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120995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06800" cy="561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17Z</dcterms:modified>
  <cp:revision>12</cp:revision>
  <dc:subject/>
  <dc:title>-ill Word Family</dc:title>
</cp:coreProperties>
</file>